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394-EB39-46EF-9F23-802B0663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231-FD21-4352-9E26-0C116F37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A76-279A-49D2-91C0-335A5EA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06E-6532-4E0B-9313-C12BC495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B924-1793-47A6-BCBA-168F7A69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586-A985-4771-AFB1-54B0D89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1344-284D-4479-B4DB-8419C30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F2F-CC1B-4781-98AC-E7FE162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5BE-2483-4A7F-A7C8-7CD7D5E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935-4540-4F75-A344-F8F40D90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436B-A00A-44A8-BDFA-7E7D430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72C-8C93-47D9-91B1-AF02E30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187-9F2A-47A1-BF8D-C00A6854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5DF2-D994-48A5-866E-8405310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128-E52F-4833-B62F-7665A04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D3B-C00B-4532-B625-E435828D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75D4-8599-49CA-8A30-F934A50C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C50-2961-4A3B-85E9-AC5B55B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E3A-A169-4D46-89A2-5D88462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1E4-F0D4-47DF-9A78-AD5D34F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3FC-49D5-478E-B753-CF2F4E2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489-A963-4621-B4FD-0EE7CF3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93D-D6A2-4214-BA1C-6490138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050-DFA4-4F2C-99CD-0F9D10E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8703-454E-47AD-A36D-921F320BB80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04E-0EE2-486C-A9AA-8DC2FE3CC8B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ffff"/>
                </a:solidFill>
                <a:latin typeface="Monotype Corsiva"/>
              </a:rPr>
              <a:t>Shop Navigator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360" y="4292640"/>
            <a:ext cx="316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142005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李世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142011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黃旭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142021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陳冠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142034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尹  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292640"/>
            <a:ext cx="31604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指導老師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黃三益教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Monotype Corsiva"/>
              </a:rPr>
              <a:t>Shop Navigator 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517840" y="1910880"/>
            <a:ext cx="4028760" cy="3892680"/>
            <a:chOff x="2517840" y="1910880"/>
            <a:chExt cx="4028760" cy="3892680"/>
          </a:xfrm>
        </p:grpSpPr>
        <p:sp>
          <p:nvSpPr>
            <p:cNvPr id="87" name=""/>
            <p:cNvSpPr/>
            <p:nvPr/>
          </p:nvSpPr>
          <p:spPr>
            <a:xfrm flipV="1">
              <a:off x="3812040" y="3371400"/>
              <a:ext cx="0" cy="243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517840" y="1910880"/>
              <a:ext cx="4028760" cy="3614400"/>
              <a:chOff x="2517840" y="1910880"/>
              <a:chExt cx="4028760" cy="36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2517840" y="4204800"/>
                <a:ext cx="3165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04760" y="4761360"/>
                <a:ext cx="3454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460760" y="2467080"/>
                <a:ext cx="0" cy="305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323680" y="2398320"/>
                <a:ext cx="0" cy="3058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77840" y="3371400"/>
                <a:ext cx="3668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164760" y="1910880"/>
                <a:ext cx="0" cy="3197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60760" y="3719160"/>
                <a:ext cx="86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748040" y="3023640"/>
              <a:ext cx="360000" cy="346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23680" y="3996720"/>
              <a:ext cx="21564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60760" y="4552920"/>
              <a:ext cx="21564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4960" y="3163320"/>
              <a:ext cx="215640" cy="20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29120" y="3163320"/>
              <a:ext cx="215640" cy="20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6400" y="3996720"/>
              <a:ext cx="21528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9680" y="4761360"/>
              <a:ext cx="21528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60760" y="3719160"/>
              <a:ext cx="21564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9120" y="3857400"/>
              <a:ext cx="215640" cy="208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8040" y="3371400"/>
              <a:ext cx="215640" cy="208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Monotype Corsiva"/>
              </a:rPr>
              <a:t>Shop Navigator 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7840" y="1773360"/>
            <a:ext cx="4030200" cy="4029480"/>
            <a:chOff x="2517840" y="1773360"/>
            <a:chExt cx="4030200" cy="4029480"/>
          </a:xfrm>
        </p:grpSpPr>
        <p:grpSp>
          <p:nvGrpSpPr>
            <p:cNvPr id="108" name=""/>
            <p:cNvGrpSpPr/>
            <p:nvPr/>
          </p:nvGrpSpPr>
          <p:grpSpPr>
            <a:xfrm>
              <a:off x="2517840" y="1911240"/>
              <a:ext cx="4028400" cy="3891600"/>
              <a:chOff x="2517840" y="1911240"/>
              <a:chExt cx="4028400" cy="38916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3811680" y="3371040"/>
                <a:ext cx="0" cy="2431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517840" y="1911240"/>
                <a:ext cx="4028400" cy="3614040"/>
                <a:chOff x="2517840" y="1911240"/>
                <a:chExt cx="4028400" cy="3614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517840" y="4204800"/>
                  <a:ext cx="31658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04760" y="4761000"/>
                  <a:ext cx="345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4460760" y="2467440"/>
                  <a:ext cx="0" cy="3057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323680" y="2397960"/>
                  <a:ext cx="0" cy="3058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77840" y="3371040"/>
                  <a:ext cx="36684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3164760" y="1911240"/>
                  <a:ext cx="0" cy="3197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60760" y="3718800"/>
                  <a:ext cx="86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4747680" y="3023280"/>
                <a:ext cx="360000" cy="34632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23680" y="3996360"/>
                <a:ext cx="215640" cy="208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60760" y="4552920"/>
                <a:ext cx="215640" cy="208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14960" y="3162960"/>
                <a:ext cx="215640" cy="20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29120" y="3162960"/>
                <a:ext cx="215640" cy="20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96400" y="3996360"/>
                <a:ext cx="215280" cy="208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39320" y="4761360"/>
                <a:ext cx="215280" cy="2084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60760" y="3719160"/>
                <a:ext cx="215640" cy="208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8760" y="3857040"/>
                <a:ext cx="215640" cy="2084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7680" y="3371400"/>
                <a:ext cx="215640" cy="208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453480" y="1773360"/>
              <a:ext cx="3094560" cy="2989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90400" y="226800"/>
            <a:ext cx="9060120" cy="6877440"/>
            <a:chOff x="590400" y="226800"/>
            <a:chExt cx="9060120" cy="6877440"/>
          </a:xfrm>
        </p:grpSpPr>
        <p:sp>
          <p:nvSpPr>
            <p:cNvPr id="130" name=""/>
            <p:cNvSpPr/>
            <p:nvPr/>
          </p:nvSpPr>
          <p:spPr>
            <a:xfrm rot="19062000">
              <a:off x="4544280" y="4686840"/>
              <a:ext cx="1510920" cy="1584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865600" y="3759840"/>
              <a:ext cx="787320" cy="1114920"/>
              <a:chOff x="2865600" y="3759840"/>
              <a:chExt cx="787320" cy="1114920"/>
            </a:xfrm>
          </p:grpSpPr>
          <p:sp>
            <p:nvSpPr>
              <p:cNvPr id="132" name=""/>
              <p:cNvSpPr/>
              <p:nvPr/>
            </p:nvSpPr>
            <p:spPr>
              <a:xfrm rot="11940000">
                <a:off x="2927880" y="4407480"/>
                <a:ext cx="289080" cy="431640"/>
              </a:xfrm>
              <a:custGeom>
                <a:avLst/>
                <a:gdLst>
                  <a:gd name="textAreaLeft" fmla="*/ 37800 w 289080"/>
                  <a:gd name="textAreaRight" fmla="*/ 251280 w 289080"/>
                  <a:gd name="textAreaTop" fmla="*/ 56520 h 431640"/>
                  <a:gd name="textAreaBottom" fmla="*/ 37512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140000">
                <a:off x="3139200" y="3795120"/>
                <a:ext cx="289080" cy="431280"/>
              </a:xfrm>
              <a:custGeom>
                <a:avLst/>
                <a:gdLst>
                  <a:gd name="textAreaLeft" fmla="*/ 37800 w 289080"/>
                  <a:gd name="textAreaRight" fmla="*/ 251280 w 289080"/>
                  <a:gd name="textAreaTop" fmla="*/ 56520 h 431280"/>
                  <a:gd name="textAreaBottom" fmla="*/ 374760 h 43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540000">
                <a:off x="3069360" y="4101120"/>
                <a:ext cx="217080" cy="431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379680" y="4394160"/>
                <a:ext cx="273240" cy="9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3370320" y="4421160"/>
                <a:ext cx="180720" cy="13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3393720" y="4353120"/>
                <a:ext cx="22788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686640" y="3835440"/>
              <a:ext cx="785520" cy="1117800"/>
              <a:chOff x="6686640" y="3835440"/>
              <a:chExt cx="785520" cy="1117800"/>
            </a:xfrm>
          </p:grpSpPr>
          <p:sp>
            <p:nvSpPr>
              <p:cNvPr id="139" name=""/>
              <p:cNvSpPr/>
              <p:nvPr/>
            </p:nvSpPr>
            <p:spPr>
              <a:xfrm rot="20526000">
                <a:off x="6924600" y="3869280"/>
                <a:ext cx="288720" cy="432000"/>
              </a:xfrm>
              <a:custGeom>
                <a:avLst/>
                <a:gdLst>
                  <a:gd name="textAreaLeft" fmla="*/ 37800 w 288720"/>
                  <a:gd name="textAreaRight" fmla="*/ 250920 w 288720"/>
                  <a:gd name="textAreaTop" fmla="*/ 56520 h 432000"/>
                  <a:gd name="textAreaBottom" fmla="*/ 375480 h 43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9726600">
                <a:off x="7124040" y="4487400"/>
                <a:ext cx="288720" cy="431640"/>
              </a:xfrm>
              <a:custGeom>
                <a:avLst/>
                <a:gdLst>
                  <a:gd name="textAreaLeft" fmla="*/ 37800 w 288720"/>
                  <a:gd name="textAreaRight" fmla="*/ 250920 w 288720"/>
                  <a:gd name="textAreaTop" fmla="*/ 56520 h 431640"/>
                  <a:gd name="textAreaBottom" fmla="*/ 37512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126000">
                <a:off x="7059960" y="4178520"/>
                <a:ext cx="217440" cy="431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686640" y="4453920"/>
                <a:ext cx="274680" cy="8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24800" y="4424040"/>
                <a:ext cx="22752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791040" y="4495680"/>
                <a:ext cx="183960" cy="134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988520" y="2520000"/>
              <a:ext cx="1107360" cy="726840"/>
              <a:chOff x="4988520" y="2520000"/>
              <a:chExt cx="1107360" cy="726840"/>
            </a:xfrm>
          </p:grpSpPr>
          <p:sp>
            <p:nvSpPr>
              <p:cNvPr id="146" name=""/>
              <p:cNvSpPr/>
              <p:nvPr/>
            </p:nvSpPr>
            <p:spPr>
              <a:xfrm rot="16600800">
                <a:off x="5075280" y="2493000"/>
                <a:ext cx="288720" cy="432000"/>
              </a:xfrm>
              <a:custGeom>
                <a:avLst/>
                <a:gdLst>
                  <a:gd name="textAreaLeft" fmla="*/ 37800 w 288720"/>
                  <a:gd name="textAreaRight" fmla="*/ 250920 w 288720"/>
                  <a:gd name="textAreaTop" fmla="*/ 56520 h 432000"/>
                  <a:gd name="textAreaBottom" fmla="*/ 375480 h 43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800200">
                <a:off x="5720040" y="2568600"/>
                <a:ext cx="288720" cy="431640"/>
              </a:xfrm>
              <a:custGeom>
                <a:avLst/>
                <a:gdLst>
                  <a:gd name="textAreaLeft" fmla="*/ 37800 w 288720"/>
                  <a:gd name="textAreaRight" fmla="*/ 250920 w 288720"/>
                  <a:gd name="textAreaTop" fmla="*/ 56520 h 431640"/>
                  <a:gd name="textAreaBottom" fmla="*/ 37512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45" y="21600"/>
                    </a:lnTo>
                    <a:lnTo>
                      <a:pt x="1955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1200200">
                <a:off x="5433480" y="2530800"/>
                <a:ext cx="217440" cy="431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476680" y="2959920"/>
                <a:ext cx="3348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384520" y="2957040"/>
                <a:ext cx="97560" cy="20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5553720" y="2965320"/>
                <a:ext cx="45720" cy="22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19062000">
              <a:off x="3768840" y="1023480"/>
              <a:ext cx="3816000" cy="3743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062000">
              <a:off x="1353240" y="2540880"/>
              <a:ext cx="3816000" cy="3743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062000">
              <a:off x="5071680" y="2563920"/>
              <a:ext cx="3816000" cy="3743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062000">
              <a:off x="4894200" y="4490280"/>
              <a:ext cx="358560" cy="409680"/>
            </a:xfrm>
            <a:prstGeom prst="star5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5280" y="38088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e5ffff"/>
                </a:solidFill>
                <a:latin typeface="Monotype Corsiva"/>
              </a:rPr>
              <a:t>GPS</a:t>
            </a:r>
            <a:endParaRPr b="0" lang="en-US" sz="7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10908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5ffff"/>
                </a:solidFill>
                <a:latin typeface="Tahoma"/>
                <a:ea typeface="標楷體"/>
              </a:rPr>
              <a:t>系統</a:t>
            </a:r>
            <a:br>
              <a:rPr sz="6000"/>
            </a:br>
            <a:r>
              <a:rPr b="1" lang="zh-TW" sz="6000" spc="-1" strike="noStrike">
                <a:solidFill>
                  <a:srgbClr val="e5ffff"/>
                </a:solidFill>
                <a:latin typeface="Tahoma"/>
                <a:ea typeface="標楷體"/>
              </a:rPr>
              <a:t>流</a:t>
            </a:r>
            <a:br>
              <a:rPr sz="6000"/>
            </a:br>
            <a:r>
              <a:rPr b="1" lang="zh-TW" sz="6000" spc="-1" strike="noStrike">
                <a:solidFill>
                  <a:srgbClr val="e5ffff"/>
                </a:solidFill>
                <a:latin typeface="Tahoma"/>
                <a:ea typeface="標楷體"/>
              </a:rPr>
              <a:t>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59280" y="189000"/>
          <a:ext cx="4587840" cy="66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189000"/>
                    <a:ext cx="4587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5ffff"/>
                </a:solidFill>
                <a:latin typeface="Tahoma"/>
                <a:ea typeface="標楷體"/>
              </a:rPr>
              <a:t>系統架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989000"/>
            <a:ext cx="2449440" cy="352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Information.j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1989000"/>
            <a:ext cx="2449440" cy="352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ender.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hopMIDlet.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Navigator.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54640" y="2060640"/>
            <a:ext cx="137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en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8600" y="1996920"/>
            <a:ext cx="1521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635280" y="3357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4149720"/>
            <a:ext cx="187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5ffff"/>
                </a:solidFill>
                <a:latin typeface="Tahoma"/>
                <a:ea typeface="標楷體"/>
              </a:rPr>
              <a:t>程式解說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InputStream i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OutputStream 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ocketConnection sc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ender send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c = (SocketConnection) Connector.open("socket://140.117.12.185:8080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i.setText("Connected to serv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is = sc.openInputStream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os = sc.openOutputStream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// Start the thread for sending messages - see Sender's m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// comment for expla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ender = new Sender(o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sender.send("GET /footprint/information.jsp?x=300&amp;y=550 HTTP/1.0\n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8520" y="2205000"/>
            <a:ext cx="4007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 Black"/>
                <a:ea typeface="SimHei"/>
              </a:rPr>
              <a:t>Q&amp;A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8:46:52Z</dcterms:created>
  <dc:creator>footprint</dc:creator>
  <dc:description/>
  <dc:language>en-US</dc:language>
  <cp:lastModifiedBy>footprint</cp:lastModifiedBy>
  <dcterms:modified xsi:type="dcterms:W3CDTF">2004-12-01T09:03:17Z</dcterms:modified>
  <cp:revision>22</cp:revision>
  <dc:subject/>
  <dc:title>Shop Navigator</dc:title>
</cp:coreProperties>
</file>